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290-91EE-446E-88A5-DF9A3134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C63-B73C-4CB8-961B-8316F1FF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D71-B70C-4533-98B9-609D1F03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78E-EE0D-481C-9185-8D16F8BB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078-0BC7-4571-B9BD-5DDAC957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450-7926-4B1D-B864-C148A1D2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0DA-ED96-40DA-B83F-5038E18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829-A1B1-4129-A6F0-C6671DC1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AF6-E757-4BFD-ABEA-8E51806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FFB-DE60-43F4-AFC0-1475047B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E61-9BEC-4396-BEA1-F10FDA1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F02-E8D9-43E8-B5C7-F3987523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D970-D9BC-4575-8E88-AF6D8518D4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637000" y="2411280"/>
            <a:ext cx="3887640" cy="67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71280" y="3706920"/>
            <a:ext cx="3141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476280" y="0"/>
            <a:ext cx="2952720" cy="24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60280" y="3635280"/>
            <a:ext cx="1368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637000" y="2411280"/>
            <a:ext cx="3887640" cy="67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1280" y="3706920"/>
            <a:ext cx="3141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565360" y="1258920"/>
            <a:ext cx="7164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60280" y="3635280"/>
            <a:ext cx="1368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565360" y="2556000"/>
            <a:ext cx="3959280" cy="65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565360" y="3708360"/>
            <a:ext cx="395928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852640" y="2700360"/>
            <a:ext cx="1297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797360" y="3419640"/>
            <a:ext cx="576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74" name="Oval 3"/>
          <p:cNvSpPr/>
          <p:nvPr/>
        </p:nvSpPr>
        <p:spPr>
          <a:xfrm>
            <a:off x="1197000" y="395280"/>
            <a:ext cx="15112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1125360" y="539640"/>
            <a:ext cx="358920" cy="57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060640" y="1476360"/>
            <a:ext cx="28872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3789360" y="755640"/>
            <a:ext cx="1944720" cy="18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79" name="Oval 3"/>
          <p:cNvSpPr/>
          <p:nvPr/>
        </p:nvSpPr>
        <p:spPr>
          <a:xfrm>
            <a:off x="3716280" y="611280"/>
            <a:ext cx="1944720" cy="20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Oval 3"/>
          <p:cNvSpPr/>
          <p:nvPr/>
        </p:nvSpPr>
        <p:spPr>
          <a:xfrm>
            <a:off x="4005360" y="1116000"/>
            <a:ext cx="1439640" cy="12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R_sempe029_22800g"/>
          <p:cNvPicPr/>
          <p:nvPr/>
        </p:nvPicPr>
        <p:blipFill>
          <a:blip r:embed="rId1"/>
          <a:stretch/>
        </p:blipFill>
        <p:spPr>
          <a:xfrm>
            <a:off x="0" y="0"/>
            <a:ext cx="64468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34:09Z</dcterms:created>
  <dc:creator>GRANGE</dc:creator>
  <dc:description/>
  <dc:language>en-US</dc:language>
  <cp:lastModifiedBy>vanessa</cp:lastModifiedBy>
  <dcterms:modified xsi:type="dcterms:W3CDTF">2014-09-29T22:12:50Z</dcterms:modified>
  <cp:revision>2</cp:revision>
  <dc:subject/>
  <dc:title>Slide 1</dc:title>
</cp:coreProperties>
</file>